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4010-1134-486B-A51E-3A24E3F7D1E4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74DA-CC92-49A2-9CB9-DD66D66E3DE2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Palatino Linotyp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10FF-A942-41BC-A66E-C68179664F9E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FDF2-7779-4BEF-AE4F-A2E74E7172E5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8A97-EF02-45EE-997B-A47DDBBAD6FC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</a:t>
            </a: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 грађ</a:t>
            </a: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0ADC-452C-4D25-B61B-997F113290A6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9172-8C2C-47E6-A8AC-A66818CA7D18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617E-6766-493F-9B69-E389E1B96AC2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C457-E74C-438C-AEF9-B428303E90E2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09F9-FE08-4647-A411-B286742D401F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8D15-6DC8-41B6-A244-F3B41EFC3FD7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B997-7545-4BBB-8F01-C6070ED649F5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4AF4-82C5-4232-9BDC-876067CB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B4D3-A722-49DF-B85B-4BA0E899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FD82-5F28-4347-AA31-8D541B78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6F31-D9A9-41FA-B46D-1B9514F63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4104-90F4-49E1-A7C8-BE230278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A6DB-A6D4-4FAB-9B40-564C5B5A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6795-7861-44F1-91EA-A4F8C2E1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B05C-0A0D-473F-8E26-08B3B974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B1DB-9684-4488-A4F0-AE0421A2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5426-56B6-42C6-A110-0F4BF83D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C971-5312-435D-8CD7-E7E037BE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12E1-4711-40CC-957D-677FBBD5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C021-0539-4747-A866-6D07C610FF0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F5F4-19D3-40DF-BF5C-C84D8994BBD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66"/>
                </a:solidFill>
                <a:latin typeface="Palatino Linotype"/>
              </a:rPr>
              <a:t>ХИРУРШ</a:t>
            </a:r>
            <a:r>
              <a:rPr b="1" lang="sr-Latn-CS" sz="4000" spc="-1" strike="noStrike">
                <a:solidFill>
                  <a:srgbClr val="000066"/>
                </a:solidFill>
                <a:latin typeface="Palatino Linotype"/>
              </a:rPr>
              <a:t>K</a:t>
            </a:r>
            <a:r>
              <a:rPr b="1" lang="sr-CS" sz="4000" spc="-1" strike="noStrike">
                <a:solidFill>
                  <a:srgbClr val="000066"/>
                </a:solidFill>
                <a:latin typeface="Palatino Linotype"/>
              </a:rPr>
              <a:t>И ПОСТУПЦИ У ЦИЉУ ОРТОДОНТСКОГ ЛЕЧЕЊА</a:t>
            </a: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    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1120" y="4060440"/>
            <a:ext cx="864252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9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25- 27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Тематске јединице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Вађење зуба из ортодонтских  разлога, корекција дијастеме сталних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зуба, третман неизниклих зуба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                  </a:t>
            </a:r>
            <a:r>
              <a:rPr b="0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Palatino Linotype"/>
              </a:rPr>
              <a:t>Доц. др Мирослав Васовић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84280" y="6180120"/>
            <a:ext cx="786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Copyright © 201</a:t>
            </a:r>
            <a:r>
              <a:rPr b="0" lang="sr-RS" sz="1000" spc="-1" strike="noStrike">
                <a:solidFill>
                  <a:srgbClr val="000000"/>
                </a:solidFill>
                <a:latin typeface="Palatino Linotype"/>
              </a:rPr>
              <a:t>9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0" y="6438960"/>
            <a:ext cx="3921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EC44-B742-4EEE-A15F-30F9C706562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690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рекција дијастеме стал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444600" y="1647720"/>
            <a:ext cx="8194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ФРЕНЕКТО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абијални френулум је мишићно-фиброзна тракаста творевина прекривена слузокожом, која припаја мимичну мускулатуру горње или доње усне за алвеоларни гребен између централних секутић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C:\Users\Zoran\Downloads\oralna hirurgija\slike\images (8).jpg"/>
          <p:cNvPicPr/>
          <p:nvPr/>
        </p:nvPicPr>
        <p:blipFill>
          <a:blip r:embed="rId1"/>
          <a:stretch/>
        </p:blipFill>
        <p:spPr>
          <a:xfrm>
            <a:off x="2481120" y="3433680"/>
            <a:ext cx="387216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23BB-63F1-4538-99F6-7325DA90D20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718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рекција дијастеме стал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444600" y="1623960"/>
            <a:ext cx="81817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C:\Users\Zoran\Downloads\oralna hirurgija\slike\download (35).jpg"/>
          <p:cNvPicPr/>
          <p:nvPr/>
        </p:nvPicPr>
        <p:blipFill>
          <a:blip r:embed="rId1"/>
          <a:stretch/>
        </p:blipFill>
        <p:spPr>
          <a:xfrm>
            <a:off x="2608200" y="1803240"/>
            <a:ext cx="4025880" cy="44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0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Уклањање сметњи за ницање стал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DCF0-7DAF-4690-AE69-B589188C068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444600" y="1528920"/>
            <a:ext cx="8265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злози за задржаност зуба у вилици могу бити општи и локал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Општи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: рахитис, дисфункција ендокриних жлезда, неухрањеност и неки генетски синдроми ( клеидокранијална дистоза, Гролин –Голцов синдром, Гарднеров синдром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Локални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: много су чешћи, нарочито неправилност оклузије и присуство прекобројних зуба, одонтоми, ерупционе цисте, пререани губитак млечног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ез обзира на разлог задржаности зуба ,императив модерне стоматологије подразумева хируршки поступак којим се помаже ницање неизниклог зуба, који се првенствено састоји у нуклањању препреке за ницање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Уклањање сметњи за ницање стал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0" y="6424560"/>
            <a:ext cx="4059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69D5-B072-44AC-88ED-D128653E779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433440" y="1636560"/>
            <a:ext cx="8205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ВАЂЕЊЕ ПРЕКОБРОЈНИХ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и прекобројни зуб је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мезиоденс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, локализован испод или између централних секутића. (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парапремолари, парамолари и дистомолари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C:\Users\Zoran\Downloads\oralna hirurgija\slike\download (33).jpg"/>
          <p:cNvPicPr/>
          <p:nvPr/>
        </p:nvPicPr>
        <p:blipFill>
          <a:blip r:embed="rId1"/>
          <a:stretch/>
        </p:blipFill>
        <p:spPr>
          <a:xfrm>
            <a:off x="1081080" y="3367080"/>
            <a:ext cx="2203560" cy="2916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C:\Users\Zoran\Downloads\oralna hirurgija\slike\download (31).jpg"/>
          <p:cNvPicPr/>
          <p:nvPr/>
        </p:nvPicPr>
        <p:blipFill>
          <a:blip r:embed="rId2"/>
          <a:stretch/>
        </p:blipFill>
        <p:spPr>
          <a:xfrm>
            <a:off x="4648320" y="3900600"/>
            <a:ext cx="33559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Уклањање сметњи за ницање стал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0" name="Date Placeholder 3"/>
          <p:cNvSpPr/>
          <p:nvPr/>
        </p:nvSpPr>
        <p:spPr>
          <a:xfrm>
            <a:off x="0" y="6424560"/>
            <a:ext cx="379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21BF-C5A2-4B0A-9BC2-F0D4418FD85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480960" y="2117880"/>
            <a:ext cx="8182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ретман прекобројних зуба се састоји у њиховом хируршком уклањању, које треба извршити што пре, док постоји потенцијал ницања сталног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 екстракције зуба, неопходно је одредити његов тачан положај у односу на суседне сталне зубе, радиографском методом и клиничким прегле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Хируршки поступци су исти као код екстракције импактираних зуба, стим што се прекобројни зуби по правилу лакше ва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39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Уклањање сметњи за ницање стал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5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F4DE-FD59-4B4C-A31A-FA4EEB4954F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433440" y="1671480"/>
            <a:ext cx="82407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C:\Users\Zoran\Downloads\oralna hirurgija\slike\images (10).jpg"/>
          <p:cNvPicPr/>
          <p:nvPr/>
        </p:nvPicPr>
        <p:blipFill>
          <a:blip r:embed="rId1"/>
          <a:stretch/>
        </p:blipFill>
        <p:spPr>
          <a:xfrm>
            <a:off x="1895400" y="2030400"/>
            <a:ext cx="511488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0" y="6424560"/>
            <a:ext cx="3782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C0DA-1341-472B-A1A6-EA176ED87D2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Уклањање сметњи за ницање стал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420840" y="1697040"/>
            <a:ext cx="820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УКЛАЊАЊЕ ОДОНТ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0" descr="C:\Users\Zoran\Downloads\oralna hirurgija\slike\download (36).jpg"/>
          <p:cNvPicPr/>
          <p:nvPr/>
        </p:nvPicPr>
        <p:blipFill>
          <a:blip r:embed="rId1"/>
          <a:stretch/>
        </p:blipFill>
        <p:spPr>
          <a:xfrm>
            <a:off x="625320" y="3089160"/>
            <a:ext cx="3910320" cy="2374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C:\Users\Zoran\Downloads\oralna hirurgija\slike\images (11).jpg"/>
          <p:cNvPicPr/>
          <p:nvPr/>
        </p:nvPicPr>
        <p:blipFill>
          <a:blip r:embed="rId2"/>
          <a:stretch/>
        </p:blipFill>
        <p:spPr>
          <a:xfrm>
            <a:off x="4906800" y="3097080"/>
            <a:ext cx="357048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6461-B09E-4CF6-ABBC-8479318B530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Уклањање сметњи за ницање стал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151" name="Picture 8" descr="C:\Users\Zoran\Downloads\oralna hirurgija\slike\phoca_thumb_m_1. tiny teeth grouped together, blocking the cuspid to erupt.jpg"/>
          <p:cNvPicPr/>
          <p:nvPr/>
        </p:nvPicPr>
        <p:blipFill>
          <a:blip r:embed="rId1"/>
          <a:stretch/>
        </p:blipFill>
        <p:spPr>
          <a:xfrm>
            <a:off x="679320" y="2279520"/>
            <a:ext cx="2914920" cy="2914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C:\Users\Zoran\Downloads\oralna hirurgija\slike\phoca_thumb_m_2. surgical removal of compound odontoma and placement of bracket for orthodontic treatment.jpg"/>
          <p:cNvPicPr/>
          <p:nvPr/>
        </p:nvPicPr>
        <p:blipFill>
          <a:blip r:embed="rId2"/>
          <a:stretch/>
        </p:blipFill>
        <p:spPr>
          <a:xfrm>
            <a:off x="4842000" y="2338560"/>
            <a:ext cx="2700360" cy="27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5FF5-0BB3-4C7F-BA58-6DE9DD95704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Уклањање сметњи за ницање стал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57" name="TextBox 6"/>
          <p:cNvSpPr/>
          <p:nvPr/>
        </p:nvSpPr>
        <p:spPr>
          <a:xfrm>
            <a:off x="1166760" y="19494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0" descr="C:\Users\Zoran\Downloads\oralna hirurgija\slike\phoca_thumb_m_3. placement of chain elastic to initially extrude  the cuspid.jpg"/>
          <p:cNvPicPr/>
          <p:nvPr/>
        </p:nvPicPr>
        <p:blipFill>
          <a:blip r:embed="rId1"/>
          <a:stretch/>
        </p:blipFill>
        <p:spPr>
          <a:xfrm>
            <a:off x="1015920" y="2230560"/>
            <a:ext cx="3203640" cy="3205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C:\Users\Zoran\Downloads\oralna hirurgija\slike\phoca_thumb_m_5.compound odontoma.jpg"/>
          <p:cNvPicPr/>
          <p:nvPr/>
        </p:nvPicPr>
        <p:blipFill>
          <a:blip r:embed="rId2"/>
          <a:stretch/>
        </p:blipFill>
        <p:spPr>
          <a:xfrm>
            <a:off x="4986360" y="2387520"/>
            <a:ext cx="2987640" cy="29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097D-0CAB-453E-9B77-62DCC29B70E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6154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ретман неизниклих стал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396720" y="2346480"/>
            <a:ext cx="826632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ависи првенствено од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а ли је појава унилатерална или билатерал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а ли је положај клице нормал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ком обиму је формиран његов кор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291D-0E65-4959-A396-B9E56ADC85B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зуба у склопу ортодонтског лечењ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457200" y="1720800"/>
            <a:ext cx="8242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ађење зуба у склопу ортодонтског лечења је један од најчешћих видова хируршке терапије, било да се ради о млечним или сталним зуб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ађење зуба није само по себи циљ, већ је основа за почетак рада ортодонта, који увек индивидуално , појединачно за сваког пацијента, одлучује које зубе и када треба вади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није се препоручивало тзв. системско вађење зуба, што је значило вађење четири истоимена зуба, најчешње првих сталних мол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анас је општеприхваћена  тзв. дозирана екстракција зуба, којом се ваде поједини зуби у зависности од локалног нал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616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ретман неизниклих стал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66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66A3-E307-41AB-91EF-6716B59BCEA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457200" y="1708200"/>
            <a:ext cx="8182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Индикациј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за примену хируршко-ортодонтског третмана неизниклих зуба треба поставити ако су испуњени следећи услов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лечни зуб је одсутан, а стални заменик се није појавио у зубном низу 6 месеци до 1 године после времена његовог ниц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тг прегледом је утврђено присуство неизниклог сталног зуба који је у релативно повољном положа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зубном низу има довољно простора за смештање сталног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0F7A-31F9-466D-B435-917DA08D30D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55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ретман неизниклих стал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174" name="Picture 8" descr="C:\Users\Zoran\Downloads\oralna hirurgija\slike\images (10).jpg"/>
          <p:cNvPicPr/>
          <p:nvPr/>
        </p:nvPicPr>
        <p:blipFill>
          <a:blip r:embed="rId1"/>
          <a:stretch/>
        </p:blipFill>
        <p:spPr>
          <a:xfrm>
            <a:off x="2243160" y="2103480"/>
            <a:ext cx="4446720" cy="33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зуба у склопу ортодонтског лечењ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67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5A29-601F-40AF-8121-C3924F800E8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444600" y="1432080"/>
            <a:ext cx="8194680" cy="48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ађењем зуба се ствара простор за ницање неизниклих зуба или померање зуба који се већналазе у зубном лу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ндикације за вађење зуба из ортодонтских разлога су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зражена тескоба и ускост ви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склад између величина зубних лу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нормална величина и облик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чување симетрије у зубним луковима и усклађивање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клузалних  одно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акаснело ортодонтско лечење фиксним апарат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зуба у склопу ортодонтског лечењ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72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1307-F812-420A-A2A0-EC4BBE476F9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433440" y="1407960"/>
            <a:ext cx="82296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и планирању и екстракцији зуба треба познавати неке опште принципе на којима се заснива ортодонтско лече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бично се екстракција планира пре ницања суседних зуба, чиме се ствара празан простор ка ком се усмерава њихово ница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времено вађење зуба има негативне последице: суседни зуби се померају ка празном простору и ствара се нова малоклуз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зијална померања су већа у односу на дистал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ко су зуби израсли, израженије је нагињање и то више у горњој  него у доњој вилиц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спех је сигурнији ако зуби које треба померити у празан простор, немају завршен раст кор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4680" y="145800"/>
            <a:ext cx="844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зуба у склопу ортодонтског лечењ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77" name="Date Placeholder 3"/>
          <p:cNvSpPr/>
          <p:nvPr/>
        </p:nvSpPr>
        <p:spPr>
          <a:xfrm>
            <a:off x="0" y="6424560"/>
            <a:ext cx="379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677C-C33F-409B-B9F8-05343BA97ED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444600" y="1720800"/>
            <a:ext cx="8218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ВАЂЕЊЕ ПОЈЕДИНИХ СТАЛНИХ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Palatino Linotype"/>
              </a:rPr>
              <a:t>Секутићи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се врло ретко ваде. Код анодонције латералног секутића на једној и његове хиподонције на другој страни вади се атипични зуб, чиме се ствара простор за несметано ницање очњака и његово постављање уз централни секутић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Palatino Linotype"/>
              </a:rPr>
              <a:t>Очњаци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се, такође изузетно ретко ваде, пошто су они врло значајни из функционалних и естетских разлога. Најчешће се ваде ако су ван зубног низа или ако су импактирани у неповољном положају, тако да покушај њиховог исправљања нема много изгледа да буде успешан (круна постављена дистално а корен мезијалн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зуба у склопу ортодонтског лечењ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82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7E96-B161-42F4-B0D7-9DE3A1307A1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80960" y="1407960"/>
            <a:ext cx="8145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Palatino Linotype"/>
              </a:rPr>
              <a:t>Први премолари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е најчешће ваде у склопу хируршко- ортодонтског лечења. Ови зуби се углавном ваде када постоји изразита тескоба у фронту ии у пределу премолара, неке аномалије друге класе или бимаксиларна протруз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Palatino Linotype"/>
              </a:rPr>
              <a:t>Други премолари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у индиковани за вађење уколико се налазе ван зубног лука ( палатинално или лингвално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Palatino Linotype"/>
              </a:rPr>
              <a:t>Први молар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век треба чувати кад је то могуће, јер овај зуб има велики утицај на раст вилице и очување загрижа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 одлуку о екстракцији овог зуба велики утицај има стање клице умња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Palatino Linotype"/>
              </a:rPr>
              <a:t>Трећи молар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зуб који се често вади, нарочито због недостатка простора у вилиц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зуба у склопу ортодонтског лечењ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87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Oralna hirurgi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65E0-8C95-4210-89C2-975F88A55F9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444600" y="1636560"/>
            <a:ext cx="8194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РОФИЛАКТИЧККО ВАЂЕЊЕ КЛИЦА НЕИЗНИКЛИХ УМЊА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( ЖЕРМЕКТОМИЈ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Жермектомија је хируршки метод уклањања клице неизниклог зуба, који се у целости налази у 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ва интервенција је индикована у склопу ортодонтског лечења јер се сматра да ови зуби стварају силу управљену унапред која изазива, или погоршава већ постојећу тескобу зубног ни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Palatino Linotype"/>
              </a:rPr>
              <a:t>Рана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жерметомија – пре калцификације круне и коренова, у периоду између 10. и 11. год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Palatino Linotype"/>
              </a:rPr>
              <a:t>Касн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жермектомија – круна зуба је формирана , али пре калцификације корена (мизмеђу 15. и 18. године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6BBF-BE7A-4938-8DD7-519394EFF4F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рекција дијастеме стал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444600" y="1647720"/>
            <a:ext cx="817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ијастема представља повећан простор ( размак ) између зуб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е се запажа између централних горњих секутића –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дијастема медијан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C:\Users\Zoran\Downloads\oralna hirurgija\slike\imagesCA61LY6N.jpg"/>
          <p:cNvPicPr/>
          <p:nvPr/>
        </p:nvPicPr>
        <p:blipFill>
          <a:blip r:embed="rId1"/>
          <a:stretch/>
        </p:blipFill>
        <p:spPr>
          <a:xfrm>
            <a:off x="1136520" y="304956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C:\Users\Zoran\Downloads\oralna hirurgija\slike\download (34).jpg"/>
          <p:cNvPicPr/>
          <p:nvPr/>
        </p:nvPicPr>
        <p:blipFill>
          <a:blip r:embed="rId2"/>
          <a:stretch/>
        </p:blipFill>
        <p:spPr>
          <a:xfrm>
            <a:off x="4649760" y="3149640"/>
            <a:ext cx="353844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0" y="6424560"/>
            <a:ext cx="3740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307D-75D4-43FE-B2CB-4A729EC44EB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70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рекција дијастеме стал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102" name="Picture 7" descr="C:\Users\Zoran\Downloads\oralna hirurgija\slike\download (32).jpg"/>
          <p:cNvPicPr/>
          <p:nvPr/>
        </p:nvPicPr>
        <p:blipFill>
          <a:blip r:embed="rId1"/>
          <a:stretch/>
        </p:blipFill>
        <p:spPr>
          <a:xfrm>
            <a:off x="698400" y="2563920"/>
            <a:ext cx="3640320" cy="2411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C:\Users\Zoran\Downloads\oralna hirurgija\slike\download (33).jpg"/>
          <p:cNvPicPr/>
          <p:nvPr/>
        </p:nvPicPr>
        <p:blipFill>
          <a:blip r:embed="rId2"/>
          <a:stretch/>
        </p:blipFill>
        <p:spPr>
          <a:xfrm>
            <a:off x="5688000" y="2452680"/>
            <a:ext cx="2395440" cy="31687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8"/>
          <p:cNvSpPr/>
          <p:nvPr/>
        </p:nvSpPr>
        <p:spPr>
          <a:xfrm>
            <a:off x="444600" y="1479600"/>
            <a:ext cx="81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зрок дијастеме може да буде и постојање мезиоден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Каја</dc:creator>
  <dc:description/>
  <dc:language>en-US</dc:language>
  <cp:lastModifiedBy>Korisnik</cp:lastModifiedBy>
  <dcterms:modified xsi:type="dcterms:W3CDTF">2019-09-09T16:39:56Z</dcterms:modified>
  <cp:revision>1557</cp:revision>
  <dc:subject/>
  <dc:title>NAZIV PREDAVANJA</dc:title>
</cp:coreProperties>
</file>